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468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27600" y="-468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6CE7951-F74A-4E88-B686-5EB3FF9EFC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30320" y="8780400"/>
            <a:ext cx="12726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AC30E6C0-1487-4092-A3D1-3578137CBB85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72880" y="700200"/>
            <a:ext cx="4586040" cy="344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920" rIns="88920" tIns="44640" bIns="4464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1EC2520-85BB-4BB3-8478-82A2F7D9AB8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0FCABA2-B5D4-4AF7-B8DA-175A7933D02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40297F2-8C03-44D3-9602-9DEB6A056D6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9B6AA8-5E22-4345-8633-1DB20658AA8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828F22F-208C-4BB7-B26D-D8A1DC01902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C116994-46BB-49B3-9601-4A319E70807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2BB383-4DDC-40FA-B6F8-1A4F1ACD948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alize this meeting may be start of team-building process.  Is the team interacting with each other?  How do they treat the team leader?  How does the team leader interact with the team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15B3F8B-B584-43EB-862F-A367E841DA6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271AA89-2EA2-4E5F-95BC-C6E3755C909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F88852-DA23-47E9-B427-5B6E633EC0E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9A93381-7180-4BC8-A44C-4F9529A362A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A7E050-5F01-4EBC-8831-4067BF40D88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cate the script LAU1 in your launch notebooks.  Talk about the fact that some organizations don’t have marketing.  It is important for management to present the perspective of marke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E84D6A-4BBC-4570-8289-BBC6D1B4A9B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4429E5A-FD50-40C7-A782-D8882A27E3E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F6D324A-3F9C-444D-B84D-AFB8F1FF810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584EB77C-3A1D-4441-8D28-792244CF69A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53C0AB2F-6394-4CF6-8F78-52ADACE799A8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launch%20meeting%201%20mgtmkt%20presentation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1844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The Launch Process - Meeting 1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paration for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28520" y="1490400"/>
            <a:ext cx="7399080" cy="48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eting 1 is the first meeting in the launch.  Therefore, it includes many of the other launch preparation task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prepare for a launch, checklists and guidelines are provid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Launch Preparation Checklist (PREPL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eam Launch Preparation Guidelin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Product Discussion Guidelin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Senior Management Goals Discussion Guidelin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eam Member Meeting 1 Discussion Guidelin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eam Leader Meeting 1 Discussion Guidelin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the coach, it is your responsibility to make sure that you, your team, management, and marketing are prepared for the launch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ider getting administrative help, especially if you are located off-si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reparing Management and Marketing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In addition to addressing the items on th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PREP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 checklist, the coa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should make sure that management and marketing know what to present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may hold a pre-launch meeting with management and marketing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answer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provide guidanc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ensure that management and marketing have read and understood the product discussion guidelines and senior management goal discussion guidelin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000" spc="-1" strike="noStrike">
                <a:solidFill>
                  <a:srgbClr val="9c2108"/>
                </a:solidFill>
                <a:latin typeface="Arial"/>
              </a:rPr>
              <a:t>Management and Marketing Presentations</a:t>
            </a:r>
            <a:endParaRPr b="1" lang="en-US" sz="3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and Marketing presentations should answer the following questions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is the team being asked to accomplish in this phase or cycle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are the quality, schedule and cost goals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are other stated goals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is a minimally successful plan? How are the goals to be prioritized and what is the flexibility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y is this work important? What is the strategic or big picture goal and objective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resources are available to accomplish these goals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y we are using TSP for this project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will the goals be measured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ource: TSP BOK, CMU/SEI-2010-TR-020, Section C3.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paring the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coach may also want to spend some time with the team prior to meeting 1 to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ensure that the team knows that its job for meeting 1 is to understand the product objectives/business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emphasize the importance of a positive, can-do attit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suggest postponing schedule and functionality debates with management until the team has a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ensure that team members have read and understood the team member meeting 1 discussion guidelin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1 Exerci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 purpo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how launch meeting 1 is condu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issues that might arise and how to deal with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rections (see meeting 1 exercise workbook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that will act as a TSP team for all nine launch exercise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instructor will play the role of the coach for each grou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 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LAU1</a:t>
            </a:r>
            <a:r>
              <a:rPr b="0" lang="en-US" sz="2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Team Member Meeting 1 Discussion Guidelines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Launch note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1 Exercise </a:t>
            </a: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(continued)</a:t>
            </a:r>
            <a:endParaRPr b="1" lang="en-US" sz="2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rections </a:t>
            </a: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launch meeting 1 (with following chang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Launch Overview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presen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s will play roles of management and marketing for the 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rite down your questions during the management and marketing 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discussion of questions after 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s will answer team questio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 debrie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Consider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17720" y="1580760"/>
            <a:ext cx="774216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agenda is flexible.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order of the management and product presentation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eparating the two Q &amp; A session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Be prepared for the following scenario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Nobody asks question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verybody asks questions at the same tim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questions are contentiou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meeting turns into a requirements specification meeting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meeting turns into a design meeting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meeting turns into problem solving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ke sure that important issues are addresse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hat are the important dates?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re the dates flexible?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ill more resources be available?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hat are the priorities?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f management and marketing do not use slides, the coach or the team leader may want to capture key points on a flip char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rst step in the launch is for the team to understand what they are being asked to d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accomplished by having marketing and management meet with the team to conv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they want the team to develo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e product is nee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resources the team h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flexibility the team h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this job is importa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success will be measu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purpose of meeting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coach role for meeting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common occurrences and problems, and know how to handle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urpose of meeting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dures for meeting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ing 1 exerc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considerations for meeting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038240" y="1778040"/>
            <a:ext cx="144792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Establish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Launch Process Meeting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038240" y="3075120"/>
            <a:ext cx="144792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2.  Assign role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defin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eam 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790720" y="1778040"/>
            <a:ext cx="1447920" cy="9907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4.  Build overal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near-term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790720" y="3025800"/>
            <a:ext cx="144792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5.  Develop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he quality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790720" y="4368960"/>
            <a:ext cx="1447920" cy="99036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6.  Build</a:t>
            </a:r>
            <a:br>
              <a:rPr sz="1200"/>
            </a:b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consolidate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1725480" y="27687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552840" y="27687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3552840" y="406404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2639880" y="2311200"/>
            <a:ext cx="0" cy="32763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2639880" y="2311560"/>
            <a:ext cx="150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4619520" y="1778040"/>
            <a:ext cx="1447920" cy="9907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7.  Condu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is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4619520" y="3075120"/>
            <a:ext cx="144792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8.  Prepar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riefing 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 repor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6524640" y="3075120"/>
            <a:ext cx="144792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5381640" y="27687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7210440" y="27687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 flipV="1">
            <a:off x="4467240" y="2311200"/>
            <a:ext cx="0" cy="32763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4467240" y="231156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3552840" y="558792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V="1">
            <a:off x="3552840" y="535896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Rectangle 26"/>
          <p:cNvSpPr/>
          <p:nvPr/>
        </p:nvSpPr>
        <p:spPr>
          <a:xfrm>
            <a:off x="6524640" y="1778040"/>
            <a:ext cx="1447920" cy="9907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9.  Hol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 flipV="1">
            <a:off x="6372360" y="2311560"/>
            <a:ext cx="0" cy="19792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6372360" y="231156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 flipH="1">
            <a:off x="5381640" y="4290840"/>
            <a:ext cx="9907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 flipV="1">
            <a:off x="5381640" y="4064040"/>
            <a:ext cx="0" cy="2268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1038240" y="4368960"/>
            <a:ext cx="1447920" cy="99036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3.  Produc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proces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25480" y="406404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 flipV="1">
            <a:off x="1725480" y="535896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 flipH="1">
            <a:off x="1725480" y="558792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Text Box 35"/>
          <p:cNvSpPr/>
          <p:nvPr/>
        </p:nvSpPr>
        <p:spPr>
          <a:xfrm>
            <a:off x="4884840" y="4903920"/>
            <a:ext cx="384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TSP team coach guides the team through a defined process to develop its plan and to negotiate that plan with manag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rpose for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purpose for meeting 1 is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organizational and project management to describe the project objectives and management goals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eam members to understand what the team is supposed to d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team-building process to beg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commitment process to beg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dure for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720" y="1577880"/>
            <a:ext cx="7845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SP Launch Meeting Script 1 (LAU1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guides this meet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cript describes what happens in the meeting, inclu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ection of meeting roles (timekeeper, recorde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ach presentation of TSP and launch over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nagement presentation of business needs and business goals for the proje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questioning to understand and clarify business needs and business go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rketing presentation of product/service objectiv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questioning to understand and clarify the product/service objectiv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organizations that do not have “marketing,” stress the importance of the two perspectives being represented even if by the same pers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nd Launch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79400" y="1531800"/>
            <a:ext cx="81043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e of the first agenda items for meeting 1 is the TSP and launch overview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coach presents the overview to familiarize the team and management what they will be doing in the launch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overview is a high-level description of th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structure and flo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launch proc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ts produced during the la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team ro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overview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s located in the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Meeting 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tab of the launch noteboo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ll be provided to you as TSP Provisional Coa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overview is usually only given if some of the Meeting 1 participants have never received any PSP/TSP training or a refresher is need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ement Present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7480" y="1490400"/>
            <a:ext cx="7710480" cy="48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senior management representativ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scribes the business goals and objectives for the projec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nswers team question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Times New Roman"/>
              </a:rPr>
              <a:t>Management wants the team to do a job.  This is their chance to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Times New Roman"/>
              </a:rPr>
              <a:t>tell the team what the job i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Times New Roman"/>
              </a:rPr>
              <a:t>why the job is important to the organizatio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Times New Roman"/>
              </a:rPr>
              <a:t>why this particular team is the best team to do the job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Times New Roman"/>
              </a:rPr>
              <a:t>motivate the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team asks questions to make sure that they understan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resources and flexibility they hav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how management will determine succes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hat requirements are “must haves” and which are “nice to haves”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eparation and participation guidelines are provided for the management representative, the team leader, and the team member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rketing Present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17360" y="15062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marketing or customer representativ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cribes the produ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mmarizes the need for the product/servi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ares the product/service to any competitive products/servic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swers the team’s questio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members make sure that they understan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customer need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marketing need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what is absolutely required and what may be “nice to have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Preparation and participation guidelines are provided for th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rketing or customer representative, the team members, and the team leader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50Z</dcterms:modified>
  <cp:revision>208</cp:revision>
  <dc:subject/>
  <dc:title>No Slide Title</dc:title>
</cp:coreProperties>
</file>